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13392-422F-4BFC-9AF0-CB478CCB71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7DD30-D842-4F39-98D8-93BC6837B7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44E0-D220-4A69-B208-B72520D7E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4718-CB81-488E-9057-353993BED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5F73-EA27-4419-8BE9-075E2ADF4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F59A-3964-4BD3-B9C4-97E25C157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35C3-3A89-45FC-A7A5-57020C2B5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4787-918E-4635-9BC2-3B15134D6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0F96-CC49-429B-A208-E3AB3D5C7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D2C3-2C1A-451F-A256-5C6D8A654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C349-743C-4050-B876-661A6521A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F9E4-FCCA-4FA5-894B-286EB191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57A6-ED5E-4D13-89CF-78ABDFC8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B0DC-DCF9-46CB-BB37-CAA07A8FD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7DD1E-4F4C-4253-8F24-7A4288ACBE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263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ХИДРОТЕРАП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32000" y="5516640"/>
            <a:ext cx="64008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ц. др Катарина Парезановић Или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Физиолошко деловање топле вод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Под деловањем термо др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и воде долази до ширења крвних судова у к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и, а у унутрашњим органима настаје вазоконстрикција сем у срцу и бубрезима. Потребно је знати да се и крвни судови у централном нервном систему понашају као крвни судови у к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и, а што м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 довести до цереброваскуларних ошт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ња, посебно код особа са повишеном тензијом и органски измењеним крвним суд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вима због артерио и атерос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лероз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Топле процедуре убрзавају ср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ани рад, дисање постаје продубљено, а код ду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 купке постаје убрзано и површно. Дуготрајне процедуре топлом водом смањују тонус миш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а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алфа спаст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ност), смањују тонус и успорење функција ЦНС-а, изазивају замор, тромост, инертност и пад мотивисаности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250560" y="76464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Физиолошко деловање топле вод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Индиферентна температур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Топла вода делује на смањење надр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љивости периферних нерава па се мо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е користити за смањење болов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8920" y="549000"/>
            <a:ext cx="864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Физиолошко деловање хладне вод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Деловање хладне воде огледа се у двофазној реакцији. К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а најпре побледи услед васконстрикције, а затим следе црвенило и вазодилатација. Код ду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г деловања хладне воде долази до парализе вазомотора, проширења крвних судова, успорења циркулације, цијанозе и хладн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 к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Деловање хладне воде огледа се и у успорењу ср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аног рада, бољем пуњењу крвних судова (пулса), пов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ању тензије, дубљем дисању, пов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ању метаболизма. Так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 се пов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ава број белих и црвених крвних зрнаца. Пов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ава се тонус скелетне мускулатуре, али ако хладн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а делује ду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 време долази до спазмолизе и смањења тонуса (деловање на нивоу гама спастицност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178920" y="549000"/>
            <a:ext cx="864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Физиолошко деловање хладне вод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Код појединих особа код ду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г деловања хладне воде могу се појавити грчеви у ногама који су најчешће у задњој лози подколенице. Краткотрајне хладне апликације делују надр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ајно у смислу тонизације организма уз повишење радне способности и побољшања менталне активност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178920" y="549000"/>
            <a:ext cx="864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Физиолошко деловање хладне вод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8920" y="54900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Подела хидротерапијских процедура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5280" y="2057040"/>
            <a:ext cx="8424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Хидротермалне процедур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I Хидрокинетицке процеду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компресе – облог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туше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поливањ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бисерна к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трљањ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подводна мас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купке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хидрокинезитерап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паковањ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Хидрохемијске процедур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V Хидроелектрицне процеду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сумпорна купк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галванска к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борова купк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угљоводоницне купке.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слана куп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 Хидроте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малне процедур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Компресе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- облоге су најједноставније хидротермалне процедуре. Могу се користити разлицити облози (хладни и топли). Најпознатији је Priesn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tz-ov облог, који представља хладан облог који се покрива са неколико слојева суве тканине да се спреци контакт са ваздухом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Поливање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мозе бити локално и опште. Користи се вода од 20-25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у трајању 3-5 мин. Затим се коза изфротира док не поцрвени. Након тога следује одмор и тај део тела се прекрије</a:t>
            </a: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Трљање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се изводи влазним пешкиром или рукавицом. После влазног примењује се суво трљање. Процедура траје 5 мин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Хидротермалне процеду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Купке могу бити опште и локалне. Као опште правило узима се 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јако надразајне купке не трају дузе од 5 м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купке умереног деловања трају 10-30 м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купке индиферентне темепратуре могу трајати и ду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е од 30 м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После општих купки потребан је одмор од најмање 30 м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Хидротермалне процеду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а) Наизмен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не купке представљају процес наизмен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не апликације хладне и топле воде. У једном суду је вода са температуром од 10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а у другом суду је температура воде 40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Болесник ставља третирани сегмент тела (нога или рука) у вруцу воду до 5 минута, а затим дрзи у хладној води 1 минут. Ова измена топло-хладно се обавља у једном третману око 5-7 пу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б) Хауфеове купке - поцетна температура воде износи 35-36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Температура воде постепено се повецава, током 10-12 минута, на 42-43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Дефиниција  Хидротерапиј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идротерапија подразумева спољну примену топле и хладне воде у циљу терап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Хидротермалне процеду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Паковања, као метод хидротерапијских процедура, подразумева увијање тела или одредјеног сегмента у мокре царшаве који се претходно потопе у хладну воду и исцеде. У третираном сегменту долази до вазоконстрикције, коју убрзо смењује вазодилатација. 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Ова процедура делује седативно услед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 деплеторног деловања на ЦНС због периферне васодилатациј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 деловања загрејаног ваздуха измедју мокрог царшава и тела (водена загрејана пара) на завршетке сензитивних нера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 мировања и одсуства механицких надразаја на коз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Паковања се користе и код упорних несаница које не реагују на медикаментозну терапију. Сува паковања - увијање пацијента у сув царшав и затим у цебе, углавном се користи после других општих хидротермалних процедур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Хидрокинет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ич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ке процедур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Тушеви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- представљају усмерени млаз воде на одр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ени сегмент тела под одр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еним притиском, одр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еном температуром и дефинисаним млазом. При примени тушева користе се две врсте надр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аја: терм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ки и механ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ки. Механ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ки надр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ај је код примене туша основни циљ, а терм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ки је секундаран. Код примене купки тај однос је био обрну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Према температури тушеви се деле на хладне, до 20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прохладне до 30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и топле изнад те температурне висин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Према притиску воде ,тушеви се деле на тушеве са ниским притиском, (до 1 атм)и тушеве са високим притиском (преко 1 ат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Према облику млаза постоје струјни, циркуларни и кишни туш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Шкотски туш, Шаркот туш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Бисерна када (вртло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на купка) представља хидрокинети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ку процедуру са индиферентном температуром воде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Подводна масаза представља млаз воде индиферентне темепратуре под одредјеним притиском, који се у кади или базену напуњеним водом усмерава према оболелом сегменту тела. Преко одре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ених наставака на крају млазнице мо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е се мењати притисак млаза воде. Оби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но се користи притисак од 101,3-202,6 k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a. По правилу се подводна маса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а изводи од периферије ка центру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Процедура траје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 10-15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минута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,.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Серија има 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10-15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апликација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Хидрокинет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ич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ке процедур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Хидрокинезитерапија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представља програм в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би у води. Дејство хидрокинезитерапије се заснива на след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им принципим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Архимедов зак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температура в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психолошки ефека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Хидрокинет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ич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ке процедур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рхимедов зак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4582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Према Арцхимедовом принципу тело губи онолико од своје те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ине колико те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и њиме истиснута те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ност. Специфи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на те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ина воде је 1,0 а нашег тела 1,036, што зна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и да је те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ина тела ве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а за само 36/1000 од истог волумена воде. Ако потопимо цело тело са главом испод воде, онда укупна те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ина тела од 70 kgr износи 2,52 kgr (70 x 0,036 = 2,52 kgr, Kowarschik, 1957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Специфицна те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ина слане воде је ве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а од слатке воде.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Морска вода има салинитет око 3%. У појединим бањским ле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илиштима салинитет је још ве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и, па математи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ки говоримо о негативној те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ини тела која износи 3 кг и више. Овакви услови омогу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авају лакши покрет и пацијент на психи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ком плану до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ивљава задовојство и сигурнос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Хидрохемијске процедур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1280" y="1801800"/>
            <a:ext cx="807552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Хидрохемијске процедуре комбинују фармаколошко деловање одре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ених материја које минерална вода садр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и или се додају хемијске материје (сумпор, етери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на уља, угљен диоксид и др.), са физи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ким и терми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ким деловањем воде.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Ове материје делују надра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ајно на ко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у,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а поред тога постоји и ефекат услед транскутане ресорпције хемијски активних материј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Угљенокиселе купке (купк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CO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делују преко рецептора за топлоту и примењују се са темературом од 35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на п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етку л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ења, која се сн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ав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ак и до 26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на крају терапијске серије. На п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етку процедура траје 5, а на крају 15 минута. За време примене ових купки саветује се мировање у кади или базену. Број апликација у једној серији об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но износи 15. К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а за време купке јако поцрвени због деловања мехур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O2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на терморецепторе. Након ових купки, које због свог деловања сназно оптер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ују кардиоваскуларни систем, саветује се одмор од 2 с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Хидрохемијске процедур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Хидроелектричне куп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Галванска ка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Четворoћeличнe купk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2627280" y="907920"/>
            <a:ext cx="3830760" cy="489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2286000" y="1066680"/>
            <a:ext cx="417672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Историјат хидротерапиј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Хидротерапија се користи према писаним изворима од којих је најстарији из Индије, као један од првих физикалних агенаса. Емпиријски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овек је п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о кориш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ње воде у циљу хигијене и расхл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ивања. У старој Грчкој вода је кориш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на у циљу л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ња, тако Хипократ (460-377 год. пне) пише да се применом хладне воде могу л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ити отоци, улцерације, гихтозне афекције и сл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Историјат хидротерапиј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YUDutch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YUDutchB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У старом Риму поред логора војске и болница обевезан објекат су била и купатила. Ова купатила су имал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грејану просторију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тепидариум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сторију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 свлачење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аподитериум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топло купатило са кадицама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алдариум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купатило са базеном и хладном водом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фигидариум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Гален је користио хидортерапијске процедуре за л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ење Римских гладијатор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У средњем век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иако има отпора према свим нау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ним људим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јављају се емпир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ари који препору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ују л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ење водом у разним бањам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Физи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ке особин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рм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ко деловање воде и деловање хидростатског притис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Вода имa 25 пут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в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у топ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т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  проводљивост од ваздуха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 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диферентна температура воде износи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sr-Latn-C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496000" cy="94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Хидротермална скал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а по 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Cordes-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6"/>
          <p:cNvSpPr/>
          <p:nvPr/>
        </p:nvSpPr>
        <p:spPr>
          <a:xfrm>
            <a:off x="0" y="609588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France YU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539640" y="1600200"/>
          <a:ext cx="8209080" cy="4784760"/>
        </p:xfrm>
        <a:graphic>
          <a:graphicData uri="http://schemas.openxmlformats.org/drawingml/2006/table">
            <a:tbl>
              <a:tblPr/>
              <a:tblGrid>
                <a:gridCol w="503280"/>
                <a:gridCol w="1441440"/>
                <a:gridCol w="1800360"/>
                <a:gridCol w="925560"/>
                <a:gridCol w="1306440"/>
                <a:gridCol w="1119240"/>
                <a:gridCol w="1112760"/>
              </a:tblGrid>
              <a:tr h="82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у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ладна диферентна зо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ис осећај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диферентна </a:t>
                      </a:r>
                      <a:br>
                        <a:rPr sz="1600"/>
                      </a:b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о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пла диферентна зо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ис осећај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9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-30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еж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-38 C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п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9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-25 C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л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-40 C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ло топ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9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-18 C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ло хл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-36C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јатно мла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-42 C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ућ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9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-12 C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ријатно хл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-44 C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9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-6 C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одношљиво хл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-46C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ријатно вре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0 C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де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-48 C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одношљиво вре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618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Дозирање по 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Cordes-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Терапија у индиферентној температури м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 трајати сатима. 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Од I до IV степена термоскале терапија се дозира у минутима, а у V и VI степену термоскале у секундама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идротерапијска реакција 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по 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Baruch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задовољавају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а хидротерапијска реак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дефектна реакција - пацијент ос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а језу (треба смањити време или површину апликациј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лоша реакција - језа, цвокотање и цијаноза (скратити време  и површину апликације уз фротирање, а понекад и прекинути хидротерапију хладном водом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3640" y="475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Физиолошко деловање топле вод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20584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Топла вода изазива црвенило к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 које је узроковано вазодилатацијом.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Вру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 процедуре преко 40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изазивају вазоконстрикцију, језу у кратком временском интервалу и затим се јавља вазодилата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4T18:14:35Z</dcterms:created>
  <dc:creator>PAKOM</dc:creator>
  <dc:description/>
  <dc:language>en-US</dc:language>
  <cp:lastModifiedBy>Kaca</cp:lastModifiedBy>
  <dcterms:modified xsi:type="dcterms:W3CDTF">2022-08-20T11:33:24Z</dcterms:modified>
  <cp:revision>22</cp:revision>
  <dc:subject/>
  <dc:title>HIDROTERAPIJA</dc:title>
</cp:coreProperties>
</file>