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1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821-7B9E-445E-A38A-3D0D2EE8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41A-7221-4A29-8592-6828B28B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97A-2A57-4CC1-BE25-ECD01CFC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2B0-0A47-4D33-893A-B7E69473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9963-3D9A-4E5A-8807-D473EBC2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8BE8-E4A1-4A94-A7F8-C3062003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7F5E-9769-425A-9324-10734BE9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669D-770F-41FF-BA90-DD4C24BA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C9EA-004B-404E-9A2A-6D7F6D3E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8F28-CFC6-4570-A9EB-B856211C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8F9E-5AB7-432C-AC1B-71B721E2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4E3-EA62-4C38-B3D0-CABEAB24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9195-1B3E-464B-AECE-E147C964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2352-D547-454B-ABE4-489F56F0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463D-5AE4-4345-BFFE-B8F3CE46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85E8-8C96-40F7-9382-A25E4266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2249-9A2D-4121-92B6-B9BED6DF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D6C2-BF12-4F1A-AB87-CE541C52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BCD8-E931-4BFE-88F8-B88806D7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518-F94D-4A3D-8267-1A28D147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374B-F10B-4F2F-AADC-B1A751C8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B90-F616-4F2B-82F2-DD15485A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9FEC-9D9D-4733-9C36-75602434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304-3757-4432-BE6F-FC46C6CA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527C-9AA0-498B-B669-1331E2F2A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0996-7A0C-43BF-A3AF-B78D5202E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993300"/>
                </a:solidFill>
                <a:latin typeface="Times New Roman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63280" y="2133360"/>
            <a:ext cx="5480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Електротерапиј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Доказивање пол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зме се стаклена чаша облика слова "У" и у једну страну стави анода а у другу катода. Физиолошки раствор се затим наспе се у чашу. Укључи се коло константне галванске струје. У сваки крак чаше облика "У" сипа се неколико капи фенолфталеина. У контакту са негативним полом фенолфталеин показује црвену бој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горе описан начин пропусти се галванска струја кроз физиолошки раствор и стави лакмус хартија. У пределу позитивног пола лакмус хартија је црвена, а у пределу негативног пола лакмус хартија мења боју у пла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ндикације: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уралгије, компресивне радикулопатиј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лг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ттрауматска стања где је к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интактн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иферна одузетос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ња после ЦВИ (обрнута галванизација катода дистално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клузивна васкуларна обољења екстремитета у фазама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по Фонтаине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орбус Раyнауд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уматска обољењ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нтраиндикације: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тални предмети у ткиву (остеосинтезе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ња ко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 на месту где треба да се апликују електрод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окална акутна запаљењ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ебрилна стањ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компензација срц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ебрилна стањ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Дозирање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тензитет об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износи од 0,1-0,5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Максимални интензитет на целој електроди не сме бити в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од 30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Он се м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лако изр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нати по форму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маскимални интензит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површина електрод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(интензитет струје по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- зависно од индивидуалне осетљивости пацијен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дуре трају око 20 мин. У једној серији об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се спроводи 10-15 процедура свакодневно, након тога следује пауза 10-15 дана. Неуспеси у терапијским 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цима су последица кратког трајања процедуре или слабог интензитета струј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ецијални облици примене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19280" y="1844640"/>
            <a:ext cx="70675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гативна електроли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Јонофоре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дрогалванске купк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лектрофореза лек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егативна електролиза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ва процедура константне галванске струје подразумева контролисану деструкцију ткива каус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м ефектом негативног пола. Користи се несразмера изм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електрода - негативни пол је платинска игла која се уводи у фоликул длаке (козметичке сврхе) или у подруцје 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х израслина (тумора), а неактивна електрода је анода вел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е длана или цак и већа. Код депилације користи се интензитет 1-2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у трајању 2-3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e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код тумора 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5-20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у трајању 30-60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Поступак је бола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дикације: Х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ртрихосис, вер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, келоидни 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љак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Јонофореза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Јонофореза је поступак електорлизе негативним полом за стерилизацију канала корена и апликативног дела зуба. Ткивне тецности се крећу као и у другим ткивима доводећи до ефеката полова. Јони 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дрзавају оптимални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 у периапикалним ткивима и имају антизапаљенски ефекат и бактерицидни ефекат. Истовремено, са стерилизацијом канала размекшава се дентинско ткиво и на тај нацин олакшава ширење кана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Хидрогалванске купк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Хидрогалванске купке се користе за 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површине. Третирани део тела (подлактица, подколеница или цело тело)је преко медијума тј. воде у контакту са извором галванске струје. Према броју када -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а имамо једн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е, дв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е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твор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е купке, а за апликацију целог тела користе се галванске ка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дура траје као и галванизација 15-20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Серија је најмање 10 процедура сваки дан, а према сл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ју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и д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трајати. Температура воде је 34-36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Индикације су исте као и код галванизације. Контраиндикације су: запаљења 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, фебрилна стања, тешки ср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и болесници, тромбофлебитиси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алванска  кадиц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3800" cy="453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алванске кад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380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52640" y="3068640"/>
            <a:ext cx="40338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мена галваске струје и хидротерапиј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Подела е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лектротерапиј</a:t>
            </a: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е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Једносмерне струје (фреквенција 0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Једносмерна галванска струја се користи као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стабилна галванизација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.G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Специјални облици примене галванске струје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негативна електролиз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јонофорез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хидрогалванске (хидроелектришне) купк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електрофореза леков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Једносмерне импулсне струје (феквенција до 1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Ледуk-ова струј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Бернард-ове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DS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експоненцијалне струје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owarschik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модулисане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кутано уношење лекова пом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галванске струје назива се електрофореза лекова. Изнимно се лекови уносе и преко слузокозе (ендоназална електрофореза леков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ек се м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 унети преко к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 и слузок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 само ако је растворљив у води и ако се лек у воденом раствору налази дисоциран. Електрофореза се заснива на кретању позитивних и негативних јона ка супротно наелектрисаним полови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Hittorf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глед указује на пролаз јона кроз глину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hatzky-e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глед на пролаз јона кроз свез кромпир, Лабатута оглед кроз мртво ткиво зивотињског порекла, 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Ens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Ledu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доказују кретање јона кроз зивотињски организа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3708360" y="1716120"/>
            <a:ext cx="5364360" cy="35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40338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јпознатији од свих је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Leduco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глед који показује да се фармакодинамско дејство лека не мења при пролазу кроз зиви организам под деловањем галванске струј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реме третмана добијамо дељењем броја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за конкретни лек са 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таном вреднош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струје 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која је подношљива за третирану особу. Струју у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A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тавамо на дисплеју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. Т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 иза друге цифре представља "зарез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пример, ако уносимо витамин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аскорбинска киселина) ције је дозирање 100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а на дисплеју оцитамо 5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(струја коју подноси тај пацијент), тада је време третман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=100:5=20 min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10"/>
          <p:cNvGraphicFramePr/>
          <p:nvPr/>
        </p:nvGraphicFramePr>
        <p:xfrm>
          <a:off x="-468360" y="109440"/>
          <a:ext cx="8712360" cy="699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109440"/>
                    <a:ext cx="8712360" cy="699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867280" y="256500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Електрофореза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леков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1120" y="387000"/>
            <a:ext cx="762768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Подела е</a:t>
            </a:r>
            <a:r>
              <a:rPr b="1" lang="en-US" sz="4400" spc="-1" strike="noStrike">
                <a:solidFill>
                  <a:srgbClr val="feec94"/>
                </a:solidFill>
                <a:latin typeface="France YU"/>
                <a:ea typeface="Times New Roman"/>
              </a:rPr>
              <a:t>лектротерапиј</a:t>
            </a: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8710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 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тати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ч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и електрицитет (франклинизација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V 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аизменишне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Струје ниске фреквенције (фреквенција до 1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фарадска струј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транскутана електришна неурална стимулација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NS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Струје средње фреквенције (фреквенција преко 1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струје средње фреквенције - интерферентне Немец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Синусоидно модулисане струје (Руска стимулација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Високофреквентне струје - фреквенција преко 100.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Д'Арсонвализација (фреквенција 100.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Дуготаласна дијатермија (фреквенција 500.000 - 1.000.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краткоталасна дијатермија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TD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фреквенција 10-1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H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ултракараткоталасна дијатермија (фреквенција 434,78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микроталасна дијатермија (фреквенција 2.45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Галванска струј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Једносмерна струја представља облик електришне енергије која у одре|еном временском интервалу не мења свој ток. Ако се при томе не мења ни интензитет ни напон, тада говоримо о константној једносмерној струји, тј. галванској струји. Деловање галванске струје на организам заснива се на особини поларитета, а то условљава примарно физишко и секундарно физиол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 деловање на организ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Облици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48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Апликација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онгитудинал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галванизациј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када су електроде постављене на крајевима третираног дела, односно дуз екстремите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Апликација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верзал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галванизациј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кадa се третирани предeо налaзи iзме|у елeктрода (предња и задња странa лакт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Примарно деловање пол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Ан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исела сре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алгез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тиедематозно делов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агулациона некро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мањује пермеабилно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мањује осмостски притиса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афореза сушење тк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мирујуће делов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Кат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азна сре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ећање осетљивости на б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купљање вод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иквефакциона некро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ећава пермеабилно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ећва осмостски притиса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лажно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дражајно делов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Секундарно деловање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23640" y="3933720"/>
            <a:ext cx="60483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тонуса вазомот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) тонуса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) модулације бол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) трофике и метаболиз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121440" cy="21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08:48:43Z</dcterms:created>
  <dc:creator>WIN98SE</dc:creator>
  <dc:description/>
  <dc:language>en-US</dc:language>
  <cp:lastModifiedBy>katarinaparezanovicilic@gmail.com</cp:lastModifiedBy>
  <dcterms:modified xsi:type="dcterms:W3CDTF">2020-09-26T16:57:35Z</dcterms:modified>
  <cp:revision>19</cp:revision>
  <dc:subject/>
  <dc:title>Elektroterapija</dc:title>
</cp:coreProperties>
</file>