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AFB-1AC2-41B5-BF5C-839AAF79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632-3202-4F35-AF8A-F6140E69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DEC-BA5C-43AB-B883-75B7D628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8F3-6648-4868-AAA4-D17E7A5B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7178-E0D8-4315-9BFF-C7FF25E4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6751-F18E-4D68-B724-44873137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604B-CDB3-4524-A5EB-651B59DA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05CA-258D-4E14-950A-2F2C1D66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A073-DF6F-4817-99FA-6730302A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B506-40EE-4752-8F10-EE8BFF97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D4CC-557C-4542-95DD-F2D3C972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30D-730B-47B1-8426-0E9A8899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15EA-F667-43A0-B21D-6FD1B7C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09B9-2A28-46F2-9F5A-12425A4F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0E0E-A0C3-419A-8487-81F08F54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F779-9AD8-4570-A5C0-5260B684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D07B-11A0-439F-8A5A-5FEE7E16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44A-A02E-49D3-9B43-DDDA8508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04C-8551-4D02-94A8-AE730F9F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A0E-A1F6-4335-B73A-CDE082C8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BC2-91E2-43D2-AC34-BF5A7F3E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704-A255-4478-96AE-FC56FCD1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F71-B4FB-431D-8643-3012416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371-0E8A-4B1D-B02C-0BADD91E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8607-49AD-45FB-AD25-E78C6FEE9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8494-19CE-4398-9BF2-E6DBCFB6FB9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podloga"/>
          <p:cNvPicPr/>
          <p:nvPr/>
        </p:nvPicPr>
        <p:blipFill>
          <a:blip r:embed="rId1"/>
          <a:stretch/>
        </p:blipFill>
        <p:spPr>
          <a:xfrm>
            <a:off x="571680" y="50004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Verdana"/>
              </a:rPr>
              <a:t>Доц. др Катарина Парезановић Илић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Модулисане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Модулације представљају "пакете" импулса где се интензитет пов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ава постепено, а затим постепено смањује. Изм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у тих "пакета" импулса налази се пауза. На овај н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 добијају се модулисане струје по ј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и где за време трајања модулационог импулса м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је стално контрахован, а за време паузе долази до деко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тракције и одм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мпулси преко 30 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 паузе 50-60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се не модулису јер такви импулси изазивају појединацне контракције. Број модулација - фреквенција модулације об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но је 6-30 у мину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547640" y="3168720"/>
            <a:ext cx="61930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16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II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92000" y="235404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) Leduc-ova струј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) Bernard-ove (DDS) стр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) експон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н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ијал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у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ј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Kowarschik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) модулисане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Leduc-ove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мпулсна галванизација је поступак у ком се користе импулси релативно мале амплитуде који су испод прага поб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вања моторичких неурон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импулсној галванизацији нај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се користе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DD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дијадинамицне струје) и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 имају импулс 2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у 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литератури се ср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појмови “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ltrareiz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 (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ји),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Traebertov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струје и сл. Аналгезија код стабилне галванизације се пост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испод аноде, а код импулсне галванизације испод кат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Bernard-ove (DDS) струј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ке струје се састоје из серије разл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ито модулисаних импулса по у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сталости, интензитету, облику и амплитуди. Фреквенција је од 50 до 1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Ове модулације се комбинују са галванском струјом (база) ниског интензитета до 2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не струје се називају и Бернардове струје јер их је француски стоматолог Бернард увео у терапијску примену 1960. год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813280" y="1600200"/>
            <a:ext cx="2862360" cy="4530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Експоненцијалне стру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кспоненцијална струја представља галванску струју импулсног тока. Трајање импулса се кре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и до 20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Интензитет који се мо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применити је и до 80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 Прве резултате о кор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њу експоненцијалних струја даје Бергони (1895) и описује то појмом "електрогимнастика". Но, детаљан опис и обја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њења деловања експоненцијалних струја даје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(1951) па се експоненцијалне струје називају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-ове струј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809880" cy="2649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6858000" y="14479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u - период улаз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p - период pаd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паузa = T - t1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81160"/>
            <a:ext cx="7845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Облици импул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а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правоугао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б) троугла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д) експоненцијал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ц) синусоид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е) трапезоид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ф) комбинова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г) Треагернове стру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х) руска стимулац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971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ec85e"/>
                </a:solidFill>
                <a:latin typeface="Times New Roman"/>
              </a:rPr>
              <a:t>Однос угла и интензитета импул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9280" y="2636640"/>
            <a:ext cx="382752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узависност нагибног угла и интензитета (ефикасност импулс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57200" y="2492280"/>
            <a:ext cx="403560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328680"/>
            <a:ext cx="8161200" cy="10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Здрав, нормалан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ако се дражи троугластим импулсима има мог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ст да се прилагоди на постепен пораст интензитета и не одговара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м контракцијом на мали интензитет. Код по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 интензитета од 40-60 мА и здрави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 имају одговор на дражење троугластим импулсима. Млитаво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нема способност акомодације, 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и на мале импулсе када се дражи троулгастим импулсима. Услед тога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код лезије периферног моторног неурона реагује и на мале интензитете 10-20 мА. На овај нацин ми применом експоненцијалних струја м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мо селективно дражити одузете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оменом трајања импулса експоненцијална струја се може прилагодити било ком степену периферне одузетости. Уколико је најтеже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е примењује се експоненцијална струја са дужим трајањем импулса - 500-1000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пауза је до 2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код несто лак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до 1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и код лак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импулс траје 50-12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ормално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љив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на 0,1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рајања импулса, а пауза је до 2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току л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код побољ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, опоравка периферног моторног неурона ск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ју се импулси и пауза, а побољшава се акомодибилит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7:57:46Z</dcterms:created>
  <dc:creator>WIN98SE</dc:creator>
  <dc:description/>
  <dc:language>en-US</dc:language>
  <cp:lastModifiedBy>katarinaparezanovicilic@gmail.com</cp:lastModifiedBy>
  <dcterms:modified xsi:type="dcterms:W3CDTF">2020-09-26T16:58:50Z</dcterms:modified>
  <cp:revision>19</cp:revision>
  <dc:subject/>
  <dc:title>II Jednosmerne impulsne struje (fekvencija do 1000 Hz)</dc:title>
</cp:coreProperties>
</file>